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C0D-C653-4FAE-AE84-6ECE6787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B30-C8DF-4947-9577-E1FA8993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52E-E4E5-4191-AB42-2E819681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F0C-9194-4EA5-8960-8326B89E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672-2A95-43F1-A2B8-E12F62F7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566-57FD-4112-8429-B2081664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DC8-B9B7-4690-A15E-A692115A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6E2-F7AA-4759-9763-E40F707D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523-E276-4371-9186-D780B622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69C-270C-46DE-A625-68C7A18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39C-F390-4E29-9363-D4F5BA2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7AD-0609-4AFC-B265-2BF02C64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DEF-9631-4A25-98C2-26F36FF3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llipses and Eccentrici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rve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orbit of things going arou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tretched out an ellips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circles have an eccentricity of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tened ellipses have an eccen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r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981080"/>
            <a:ext cx="1904760" cy="175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495680"/>
            <a:ext cx="35812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ccentricities closer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ccentricities closer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er the period of a comet, the closer its eccentricity is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centricity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9:30:18Z</dcterms:created>
  <dc:creator>Jean Kavanagh</dc:creator>
  <dc:description/>
  <dc:language>en-US</dc:language>
  <cp:lastModifiedBy>Jean Kavanagh</cp:lastModifiedBy>
  <dcterms:modified xsi:type="dcterms:W3CDTF">2007-12-10T19:35:31Z</dcterms:modified>
  <cp:revision>3</cp:revision>
  <dc:subject/>
  <dc:title>Ellipses and Eccentricity</dc:title>
</cp:coreProperties>
</file>